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_rels/notesSlide3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19B4D-6766-405D-87D6-DB815353A73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549F2-FF9E-4E8F-9391-9502F362739F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31AFC-D611-43AA-BA99-8D9D95173AD4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C8E6F-133F-49C9-9A2B-233F3FC6000C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37DA4-6AEB-4B74-9EDF-12E9796F7A2F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565EA-ACB6-4598-85FD-06E17FDB9C48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AD484-803F-4312-BF43-06839A2E095B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1FBDD-63AA-43AD-B974-636442BCDF17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461AC-1729-49A1-A35E-9D653C1D1994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5D0A1-29E6-4EC9-ADC5-8F55B10EB2E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71436-3ECA-452F-AE40-39C75B97A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FDB52-A4EC-491F-815C-6596D157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1C9B2-A43B-4964-8B45-A8A0A4F526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407B1-35A2-4BB2-9E1C-559184B99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6F58B-CB98-467A-9F02-9A3805077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F4669-A489-4AD4-B06E-B90254B94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76FA4-8486-4E87-9957-45DBD972E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10EAC-8F81-41DA-9F68-330DD16BB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E1123-CB97-426C-B597-22C9C1B86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741B4-D8A4-4057-84AF-9F87B27B1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DE719-A8B7-43CF-B108-182078358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C4EB6-1864-418D-B2E0-483A712350B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Tahoma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Tahoma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Tahoma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Tahoma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Tahoma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Tahoma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Tahoma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Tahoma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Tahoma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Tahoma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Tahoma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Tahoma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80" y="2636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</a:rPr>
              <a:t>第十六节  黄 疸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14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经典繁行书"/>
                <a:ea typeface="黑体"/>
              </a:rPr>
              <a:t>溶血性黄疸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黑体"/>
              </a:rPr>
              <a:t>病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AutoShape 3"/>
          <p:cNvSpPr/>
          <p:nvPr/>
        </p:nvSpPr>
        <p:spPr>
          <a:xfrm>
            <a:off x="250920" y="2349360"/>
            <a:ext cx="1873080" cy="1224000"/>
          </a:xfrm>
          <a:prstGeom prst="rightArrow">
            <a:avLst>
              <a:gd name="adj1" fmla="val 50000"/>
              <a:gd name="adj2" fmla="val 38257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先天性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2124000" y="2205000"/>
            <a:ext cx="6553440" cy="144000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红细胞膜缺陷（遗传性球形红细胞增多症）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红细胞酶缺乏（葡萄糖</a:t>
            </a:r>
            <a:r>
              <a:rPr b="0" lang="en-US" sz="2000" spc="-1" strike="noStrike">
                <a:solidFill>
                  <a:srgbClr val="046ca6"/>
                </a:solidFill>
                <a:latin typeface="黑体"/>
                <a:ea typeface="黑体"/>
              </a:rPr>
              <a:t>-6-</a:t>
            </a: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磷酸脱氢酶缺乏症）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71" name="AutoShape 5"/>
          <p:cNvSpPr/>
          <p:nvPr/>
        </p:nvSpPr>
        <p:spPr>
          <a:xfrm>
            <a:off x="324000" y="4508640"/>
            <a:ext cx="1871640" cy="1152360"/>
          </a:xfrm>
          <a:prstGeom prst="rightArrow">
            <a:avLst>
              <a:gd name="adj1" fmla="val 50000"/>
              <a:gd name="adj2" fmla="val 40604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获得性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72" name="AutoShape 6"/>
          <p:cNvSpPr/>
          <p:nvPr/>
        </p:nvSpPr>
        <p:spPr>
          <a:xfrm>
            <a:off x="2195640" y="4365720"/>
            <a:ext cx="6408720" cy="141912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黑体"/>
              </a:rPr>
              <a:t>自身免疫性贫血、异型输血后溶血、新生儿溶血症、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黑体"/>
              </a:rPr>
              <a:t>恶性疟疾、药物或毒物（如蛇毒）引起的溶血等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174" name="Picture 2" descr="遗传性球形细胞增多症"/>
          <p:cNvPicPr/>
          <p:nvPr/>
        </p:nvPicPr>
        <p:blipFill>
          <a:blip r:embed="rId1"/>
          <a:stretch/>
        </p:blipFill>
        <p:spPr>
          <a:xfrm>
            <a:off x="1476360" y="1197000"/>
            <a:ext cx="5040360" cy="504036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877080" y="1412640"/>
            <a:ext cx="50472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黑体"/>
              </a:rPr>
              <a:t>遗传性球形红细胞增多症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177" name="Picture 2" descr="蚕豆"/>
          <p:cNvPicPr/>
          <p:nvPr/>
        </p:nvPicPr>
        <p:blipFill>
          <a:blip r:embed="rId1"/>
          <a:stretch/>
        </p:blipFill>
        <p:spPr>
          <a:xfrm>
            <a:off x="5219640" y="3789360"/>
            <a:ext cx="2881440" cy="19461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蚕豆病"/>
          <p:cNvPicPr/>
          <p:nvPr/>
        </p:nvPicPr>
        <p:blipFill>
          <a:blip r:embed="rId2"/>
          <a:stretch/>
        </p:blipFill>
        <p:spPr>
          <a:xfrm>
            <a:off x="1763640" y="1557360"/>
            <a:ext cx="2833920" cy="429264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1640" y="1628640"/>
            <a:ext cx="432108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蚕豆病（葡萄糖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-6-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磷酸脱氢酶缺乏症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溶血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184" name="Picture 3" descr="溶血性黄疸发生机制示意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2"/>
          <p:cNvSpPr/>
          <p:nvPr/>
        </p:nvSpPr>
        <p:spPr>
          <a:xfrm>
            <a:off x="2411280" y="6164640"/>
            <a:ext cx="39610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溶血性黄疸发生机制示意图</a:t>
            </a:r>
            <a:br>
              <a:rPr sz="2400"/>
            </a:br>
            <a:br>
              <a:rPr sz="2000"/>
            </a:b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4859280" y="1989000"/>
            <a:ext cx="72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87" name="WordArt 5"/>
          <p:cNvSpPr txBox="1"/>
          <p:nvPr/>
        </p:nvSpPr>
        <p:spPr>
          <a:xfrm>
            <a:off x="4427640" y="2133720"/>
            <a:ext cx="106668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cap="sq" w="19080">
                  <a:solidFill>
                    <a:srgbClr val="046ca6"/>
                  </a:solidFill>
                  <a:miter/>
                </a:ln>
                <a:solidFill>
                  <a:srgbClr val="046ca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大量破坏</a:t>
            </a:r>
            <a:endParaRPr b="1" lang="en-US" sz="2000" spc="1" strike="noStrike">
              <a:ln cap="sq" w="19080">
                <a:solidFill>
                  <a:srgbClr val="046ca6"/>
                </a:solidFill>
                <a:miter/>
              </a:ln>
              <a:solidFill>
                <a:srgbClr val="046ca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8" name="AutoShape 6"/>
          <p:cNvSpPr/>
          <p:nvPr/>
        </p:nvSpPr>
        <p:spPr>
          <a:xfrm>
            <a:off x="179280" y="4149720"/>
            <a:ext cx="2089080" cy="1943280"/>
          </a:xfrm>
          <a:prstGeom prst="flowChartAlternateProcess">
            <a:avLst/>
          </a:prstGeom>
          <a:solidFill>
            <a:srgbClr val="ff0000">
              <a:alpha val="94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UCB      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CB      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正常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粪胆原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89" name="Line 10"/>
          <p:cNvSpPr/>
          <p:nvPr/>
        </p:nvSpPr>
        <p:spPr>
          <a:xfrm flipV="1">
            <a:off x="2556000" y="2349360"/>
            <a:ext cx="0" cy="503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90" name="Line 11"/>
          <p:cNvSpPr/>
          <p:nvPr/>
        </p:nvSpPr>
        <p:spPr>
          <a:xfrm flipV="1">
            <a:off x="4859280" y="3645000"/>
            <a:ext cx="0" cy="503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91" name="Line 12"/>
          <p:cNvSpPr/>
          <p:nvPr/>
        </p:nvSpPr>
        <p:spPr>
          <a:xfrm flipV="1">
            <a:off x="5364000" y="5446800"/>
            <a:ext cx="0" cy="503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92" name="Line 14"/>
          <p:cNvSpPr/>
          <p:nvPr/>
        </p:nvSpPr>
        <p:spPr>
          <a:xfrm flipV="1">
            <a:off x="7740720" y="3645000"/>
            <a:ext cx="0" cy="503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93" name="AutoShape 15"/>
          <p:cNvSpPr/>
          <p:nvPr/>
        </p:nvSpPr>
        <p:spPr>
          <a:xfrm>
            <a:off x="7308720" y="836640"/>
            <a:ext cx="1440000" cy="865080"/>
          </a:xfrm>
          <a:prstGeom prst="roundRect">
            <a:avLst>
              <a:gd name="adj" fmla="val 16667"/>
            </a:avLst>
          </a:prstGeom>
          <a:solidFill>
            <a:srgbClr val="ffff00">
              <a:alpha val="93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尿胆原 </a:t>
            </a:r>
            <a:r>
              <a:rPr b="1" lang="zh-CN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尿胆红素  </a:t>
            </a:r>
            <a:r>
              <a:rPr b="1" lang="zh-CN" sz="1800" spc="-1" strike="noStrike">
                <a:solidFill>
                  <a:srgbClr val="046ca6"/>
                </a:solidFill>
                <a:latin typeface="Symbol"/>
                <a:ea typeface="Symbol"/>
              </a:rPr>
              <a:t>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46ca6"/>
                                      </p:to>
                                    </p:animClr>
                                    <p:animClr clrSpc="rgb">
                                      <p:cBhvr>
                                        <p:cTn id="79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46ca6"/>
                                      </p:to>
                                    </p:animClr>
                                    <p:set>
                                      <p:cBhvr>
                                        <p:cTn id="80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81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82" dur="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83" dur="150" fill="hold">
                                          <p:stCondLst>
                                            <p:cond delay="35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溶血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775720" cy="49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溶血性黄疸：黄疸较轻，皮肤呈浅柠檬色，不伴皮肤瘙痒，粪便颜色加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急性溶血：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高热、寒战、头痛、腰背痛、血红蛋白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慢性溶血：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贫血、黄疸、脾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实验室检查：</a:t>
            </a:r>
            <a:r>
              <a:rPr b="0" lang="zh-CN" sz="24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总胆红素增加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，</a:t>
            </a:r>
            <a:r>
              <a:rPr b="0" lang="zh-CN" sz="24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非结合胆红素增高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，</a:t>
            </a:r>
            <a:r>
              <a:rPr b="0" lang="zh-CN" sz="24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结合胆红素正常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，</a:t>
            </a:r>
            <a:r>
              <a:rPr b="0" lang="zh-CN" sz="24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尿结合胆红素（</a:t>
            </a:r>
            <a:r>
              <a:rPr b="0" lang="en-US" sz="24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-</a:t>
            </a:r>
            <a:r>
              <a:rPr b="0" lang="zh-CN" sz="24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），粪胆原增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618920" y="765000"/>
            <a:ext cx="638964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黑体"/>
              </a:rPr>
              <a:t>黄疸的分类及机制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AutoShape 3"/>
          <p:cNvSpPr/>
          <p:nvPr/>
        </p:nvSpPr>
        <p:spPr>
          <a:xfrm>
            <a:off x="2916360" y="1989000"/>
            <a:ext cx="5688000" cy="244980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溶血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细胞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胆汁淤积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梗阻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03" name="AutoShape 4"/>
          <p:cNvSpPr/>
          <p:nvPr/>
        </p:nvSpPr>
        <p:spPr>
          <a:xfrm>
            <a:off x="3059280" y="4869000"/>
            <a:ext cx="5545080" cy="141912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UC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增高为主的黄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增高为主的黄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1260720" y="2708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</a:rPr>
              <a:t>按病因学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665280" y="5229360"/>
            <a:ext cx="15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按胆红素性质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肝细胞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经典繁行书"/>
              </a:rPr>
              <a:t>肝细胞性黄疸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最常见病因：病毒性肝炎（甲、乙、丙、丁、戊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其他肝炎：酒精肝、药物肝、脂肪肝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硬化、肝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教学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黄疸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阐述黄疸的分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的语言解释正常胆红素代谢的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举例说明不同类型黄疸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的语言解释不同类型黄疸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比较各类黄疸，正确说明其临床表现的区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运用本节所学知识，能针对黄疸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根据护理评估，能正确作出护理诊断，并列出相关因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肝细胞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216" name="Picture 3" descr="肝细胞性黄疸发生机制示意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2"/>
          <p:cNvSpPr/>
          <p:nvPr/>
        </p:nvSpPr>
        <p:spPr>
          <a:xfrm>
            <a:off x="2627280" y="616464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肝细胞性黄疸发生机制示意图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395280" y="4365720"/>
            <a:ext cx="1655640" cy="1150920"/>
          </a:xfrm>
          <a:prstGeom prst="flowChartAlternateProcess">
            <a:avLst/>
          </a:prstGeom>
          <a:solidFill>
            <a:srgbClr val="ff0000">
              <a:alpha val="94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UCB      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CB       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19" name="AutoShape 5"/>
          <p:cNvSpPr/>
          <p:nvPr/>
        </p:nvSpPr>
        <p:spPr>
          <a:xfrm>
            <a:off x="7236000" y="549360"/>
            <a:ext cx="1728720" cy="1152360"/>
          </a:xfrm>
          <a:prstGeom prst="roundRect">
            <a:avLst>
              <a:gd name="adj" fmla="val 16667"/>
            </a:avLst>
          </a:prstGeom>
          <a:solidFill>
            <a:srgbClr val="ffff00">
              <a:alpha val="93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尿胆红素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2987640" y="407664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ff33"/>
                </a:solidFill>
                <a:latin typeface="Arial"/>
              </a:rPr>
              <a:t>肝受损</a:t>
            </a:r>
            <a:endParaRPr b="1" lang="en-US" sz="16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21" name="Line 7"/>
          <p:cNvSpPr/>
          <p:nvPr/>
        </p:nvSpPr>
        <p:spPr>
          <a:xfrm flipV="1">
            <a:off x="2627280" y="1916280"/>
            <a:ext cx="0" cy="576000"/>
          </a:xfrm>
          <a:prstGeom prst="line">
            <a:avLst/>
          </a:prstGeom>
          <a:ln w="57240">
            <a:solidFill>
              <a:srgbClr val="ddb52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22" name="Line 8"/>
          <p:cNvSpPr/>
          <p:nvPr/>
        </p:nvSpPr>
        <p:spPr>
          <a:xfrm flipV="1">
            <a:off x="8893080" y="3357720"/>
            <a:ext cx="0" cy="576000"/>
          </a:xfrm>
          <a:prstGeom prst="line">
            <a:avLst/>
          </a:prstGeom>
          <a:ln w="57240">
            <a:solidFill>
              <a:srgbClr val="ddb52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7" dur="500" fill="hold"/>
                                        <p:tgtEl>
                                          <p:spTgt spid="2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肝小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5" name="Picture 4" descr="e1fe9925bc315c607bc819cc8db1cb1348540923dd54578f"/>
          <p:cNvPicPr/>
          <p:nvPr/>
        </p:nvPicPr>
        <p:blipFill>
          <a:blip r:embed="rId1"/>
          <a:stretch/>
        </p:blipFill>
        <p:spPr>
          <a:xfrm>
            <a:off x="539640" y="1628640"/>
            <a:ext cx="7505640" cy="49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肝细胞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细胞性黄疸：皮肤、黏膜浅黄至深黄不等，可伴有乏力、恶心、呕吐、食欲减退、腹胀、肝区胀痛及其他原发病的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实验室检查：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</a:rPr>
              <a:t>非结合胆红素、结合胆红素均增加，尿结合胆红素（</a:t>
            </a:r>
            <a:r>
              <a:rPr b="1" lang="en-US" sz="2800" spc="-1" strike="noStrike">
                <a:solidFill>
                  <a:srgbClr val="ddb523"/>
                </a:solidFill>
                <a:latin typeface="Verdana"/>
              </a:rPr>
              <a:t>+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18920" y="765000"/>
            <a:ext cx="638964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黑体"/>
              </a:rPr>
              <a:t>黄疸的分类及机制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AutoShape 3"/>
          <p:cNvSpPr/>
          <p:nvPr/>
        </p:nvSpPr>
        <p:spPr>
          <a:xfrm>
            <a:off x="2916360" y="1989000"/>
            <a:ext cx="5688000" cy="244980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溶血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细胞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胆汁淤积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梗阻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35" name="AutoShape 4"/>
          <p:cNvSpPr/>
          <p:nvPr/>
        </p:nvSpPr>
        <p:spPr>
          <a:xfrm>
            <a:off x="3059280" y="4869000"/>
            <a:ext cx="5545080" cy="141912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UC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增高为主的黄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增高为主的黄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1260720" y="2708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</a:rPr>
              <a:t>按病因学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37" name="Rectangle 6"/>
          <p:cNvSpPr/>
          <p:nvPr/>
        </p:nvSpPr>
        <p:spPr>
          <a:xfrm>
            <a:off x="665280" y="5229360"/>
            <a:ext cx="15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按胆红素性质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胆汁淤积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74360" y="31680"/>
            <a:ext cx="7451640" cy="14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经典繁行书"/>
              </a:rPr>
              <a:t>胆汁淤积性黄疸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AutoShape 3"/>
          <p:cNvSpPr/>
          <p:nvPr/>
        </p:nvSpPr>
        <p:spPr>
          <a:xfrm>
            <a:off x="250920" y="2349360"/>
            <a:ext cx="1873080" cy="1224000"/>
          </a:xfrm>
          <a:prstGeom prst="rightArrow">
            <a:avLst>
              <a:gd name="adj1" fmla="val 50000"/>
              <a:gd name="adj2" fmla="val 38257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黑体"/>
              </a:rPr>
              <a:t>肝</a:t>
            </a:r>
            <a:r>
              <a:rPr b="1" lang="zh-CN" sz="2000" spc="-1" strike="noStrike">
                <a:solidFill>
                  <a:srgbClr val="046ca6"/>
                </a:solidFill>
                <a:latin typeface="Tahoma"/>
                <a:ea typeface="黑体"/>
              </a:rPr>
              <a:t>内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44" name="AutoShape 4"/>
          <p:cNvSpPr/>
          <p:nvPr/>
        </p:nvSpPr>
        <p:spPr>
          <a:xfrm>
            <a:off x="2124000" y="2205000"/>
            <a:ext cx="6553440" cy="144000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黑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黑体"/>
              </a:rPr>
              <a:t>、胆汁淤积性肝炎，原发性胆汁型肝硬化；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黑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黑体"/>
              </a:rPr>
              <a:t>、肝内泥沙样结石、寄生虫和癌栓等。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45" name="AutoShape 5"/>
          <p:cNvSpPr/>
          <p:nvPr/>
        </p:nvSpPr>
        <p:spPr>
          <a:xfrm>
            <a:off x="324000" y="4508640"/>
            <a:ext cx="1871640" cy="1152360"/>
          </a:xfrm>
          <a:prstGeom prst="rightArrow">
            <a:avLst>
              <a:gd name="adj1" fmla="val 50000"/>
              <a:gd name="adj2" fmla="val 40604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ahoma"/>
                <a:ea typeface="黑体"/>
              </a:rPr>
              <a:t>肝</a:t>
            </a:r>
            <a:r>
              <a:rPr b="1" lang="zh-CN" sz="2000" spc="-1" strike="noStrike">
                <a:solidFill>
                  <a:srgbClr val="ff3300"/>
                </a:solidFill>
                <a:latin typeface="Tahoma"/>
                <a:ea typeface="黑体"/>
              </a:rPr>
              <a:t>外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46" name="AutoShape 6"/>
          <p:cNvSpPr/>
          <p:nvPr/>
        </p:nvSpPr>
        <p:spPr>
          <a:xfrm>
            <a:off x="2195640" y="4365720"/>
            <a:ext cx="6408720" cy="141912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  <a:ea typeface="黑体"/>
              </a:rPr>
              <a:t>1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  <a:ea typeface="黑体"/>
              </a:rPr>
              <a:t>、胆总管结石、蛔虫、炎症、癌肿等；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  <a:ea typeface="黑体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  <a:ea typeface="黑体"/>
              </a:rPr>
              <a:t>、壶腹周围癌、胰头癌、肝癌等压迫胆管。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47" name="AutoShape 7"/>
          <p:cNvSpPr/>
          <p:nvPr/>
        </p:nvSpPr>
        <p:spPr>
          <a:xfrm>
            <a:off x="1403280" y="3789360"/>
            <a:ext cx="1513080" cy="576360"/>
          </a:xfrm>
          <a:prstGeom prst="wedgeRoundRectCallout">
            <a:avLst>
              <a:gd name="adj1" fmla="val -40240"/>
              <a:gd name="adj2" fmla="val 100138"/>
              <a:gd name="adj3" fmla="val 16667"/>
            </a:avLst>
          </a:prstGeom>
          <a:solidFill>
            <a:srgbClr val="99cc00">
              <a:alpha val="94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外科黄疸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胆汁淤积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252" name="Picture 3" descr="梗阻性黄疸发生机制示意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2"/>
          <p:cNvSpPr/>
          <p:nvPr/>
        </p:nvSpPr>
        <p:spPr>
          <a:xfrm>
            <a:off x="2627280" y="6312240"/>
            <a:ext cx="3960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梗阻性黄疸发生机制示意图</a:t>
            </a:r>
            <a:br>
              <a:rPr sz="2000"/>
            </a:b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5076720" y="422100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69696"/>
                </a:solidFill>
                <a:latin typeface="Arial"/>
                <a:ea typeface="隶书"/>
              </a:rPr>
              <a:t>胆道梗阻</a:t>
            </a:r>
            <a:endParaRPr b="1" lang="en-US" sz="16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55" name="AutoShape 5"/>
          <p:cNvSpPr/>
          <p:nvPr/>
        </p:nvSpPr>
        <p:spPr>
          <a:xfrm>
            <a:off x="7308720" y="333360"/>
            <a:ext cx="1835280" cy="1224000"/>
          </a:xfrm>
          <a:prstGeom prst="roundRect">
            <a:avLst>
              <a:gd name="adj" fmla="val 16667"/>
            </a:avLst>
          </a:prstGeom>
          <a:solidFill>
            <a:srgbClr val="ffff00">
              <a:alpha val="93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尿胆原 </a:t>
            </a:r>
            <a:r>
              <a:rPr b="1" lang="zh-CN" sz="2000" spc="-1" strike="noStrike">
                <a:solidFill>
                  <a:srgbClr val="046ca6"/>
                </a:solidFill>
                <a:latin typeface="Symbol"/>
                <a:ea typeface="Symbol"/>
              </a:rPr>
              <a:t>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或消失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尿胆红素 </a:t>
            </a:r>
            <a:r>
              <a:rPr b="1" lang="zh-CN" sz="2000" spc="-1" strike="noStrike">
                <a:solidFill>
                  <a:srgbClr val="046ca6"/>
                </a:solidFill>
                <a:latin typeface="Symbol"/>
                <a:ea typeface="Symbol"/>
              </a:rPr>
              <a:t>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46ca6"/>
                </a:solidFill>
                <a:latin typeface="Symbol"/>
                <a:ea typeface="Symbol"/>
              </a:rPr>
              <a:t>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56" name="AutoShape 6"/>
          <p:cNvSpPr/>
          <p:nvPr/>
        </p:nvSpPr>
        <p:spPr>
          <a:xfrm>
            <a:off x="611280" y="4581360"/>
            <a:ext cx="1655640" cy="1151280"/>
          </a:xfrm>
          <a:prstGeom prst="flowChartAlternateProcess">
            <a:avLst/>
          </a:prstGeom>
          <a:solidFill>
            <a:srgbClr val="ff0000">
              <a:alpha val="94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CB      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UCB     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正常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4" dur="500" fill="hold"/>
                                        <p:tgtEl>
                                          <p:spTgt spid="2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81882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思考：患者出现了什么</a:t>
            </a:r>
            <a:r>
              <a:rPr b="1" lang="zh-CN" sz="3600" spc="-1" strike="noStrike">
                <a:solidFill>
                  <a:srgbClr val="ddb523"/>
                </a:solidFill>
                <a:latin typeface="Verdana"/>
              </a:rPr>
              <a:t>症状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7" name="Picture 4" descr="黄疸"/>
          <p:cNvPicPr/>
          <p:nvPr/>
        </p:nvPicPr>
        <p:blipFill>
          <a:blip r:embed="rId1"/>
          <a:stretch/>
        </p:blipFill>
        <p:spPr>
          <a:xfrm>
            <a:off x="0" y="1557360"/>
            <a:ext cx="4788000" cy="5084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皮肤黄疸314"/>
          <p:cNvPicPr/>
          <p:nvPr/>
        </p:nvPicPr>
        <p:blipFill>
          <a:blip r:embed="rId2"/>
          <a:stretch/>
        </p:blipFill>
        <p:spPr>
          <a:xfrm>
            <a:off x="4859280" y="1557360"/>
            <a:ext cx="4211640" cy="50133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0" y="1628280"/>
            <a:ext cx="896472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胆汁淤积性黄疸：黄疸程度较重，皮肤呈暗黄色，完全梗阻者可呈黄绿色，甚至绿褐色，并伴有皮肤瘙痒、尿色深、粪便颜色变浅或呈白陶土色。腹泻、出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实验室检查：</a:t>
            </a:r>
            <a:r>
              <a:rPr b="1" lang="zh-CN" sz="28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总胆红素增高，结合胆红素增高为主，尿结合胆红素（</a:t>
            </a:r>
            <a:r>
              <a:rPr b="1" lang="en-US" sz="28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+</a:t>
            </a:r>
            <a:r>
              <a:rPr b="1" lang="zh-CN" sz="28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），尿胆原粪胆素减少或缺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1" name="Text Box 2"/>
          <p:cNvSpPr/>
          <p:nvPr/>
        </p:nvSpPr>
        <p:spPr>
          <a:xfrm>
            <a:off x="3059280" y="344520"/>
            <a:ext cx="59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附录：三种黄疸实验室检查的区别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2" name="Line 3"/>
          <p:cNvSpPr/>
          <p:nvPr/>
        </p:nvSpPr>
        <p:spPr>
          <a:xfrm>
            <a:off x="453960" y="1628640"/>
            <a:ext cx="8382240" cy="0"/>
          </a:xfrm>
          <a:prstGeom prst="line">
            <a:avLst/>
          </a:prstGeom>
          <a:ln cap="sq"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608040" y="1773360"/>
            <a:ext cx="82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项目                  溶血性                肝细胞性               胆汁淤积性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TB       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    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        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CB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正常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 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UCB    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正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CB/TB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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20%                   20%~60%   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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60%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尿胆红素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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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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尿胆原    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                       轻度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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或消失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4" name="Line 5"/>
          <p:cNvSpPr/>
          <p:nvPr/>
        </p:nvSpPr>
        <p:spPr>
          <a:xfrm>
            <a:off x="685800" y="6843600"/>
            <a:ext cx="8458200" cy="0"/>
          </a:xfrm>
          <a:prstGeom prst="line">
            <a:avLst/>
          </a:prstGeom>
          <a:ln cap="sq"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5" name="Line 6"/>
          <p:cNvSpPr/>
          <p:nvPr/>
        </p:nvSpPr>
        <p:spPr>
          <a:xfrm>
            <a:off x="530280" y="2205000"/>
            <a:ext cx="8305920" cy="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6" name="Line 8"/>
          <p:cNvSpPr/>
          <p:nvPr/>
        </p:nvSpPr>
        <p:spPr>
          <a:xfrm>
            <a:off x="392040" y="4510080"/>
            <a:ext cx="8382240" cy="0"/>
          </a:xfrm>
          <a:prstGeom prst="line">
            <a:avLst/>
          </a:prstGeom>
          <a:ln cap="sq"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0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0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0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诊断要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-360" y="2017800"/>
            <a:ext cx="895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病因与诱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确定有无黄疸：通过看皮肤、黏膜与巩膜有无黄染、程度和分布范围。注意与假性黄疸鉴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黄疸的程度：粪、尿颜色、皮肤色泽及深浅、是否伴有瘙痒及其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对功能性健康型态的影响：皮肤、形象、睡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睡眠型态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体象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皮肤完整性受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舒适度减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隶书"/>
              </a:rPr>
              <a:t>病例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35344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患者，男，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50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岁。粪便呈现灰白色，伴身黄、尿黄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43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天入院。入院前曾疑为</a:t>
            </a: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毒性肝炎</a:t>
            </a: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在某院住院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7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分析：该病考虑哪一型黄疸？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答：梗阻性黄疸。</a:t>
            </a:r>
            <a:br>
              <a:rPr sz="2800"/>
            </a:br>
            <a:r>
              <a:rPr b="0" lang="zh-CN" sz="2800" spc="-1" strike="noStrike">
                <a:solidFill>
                  <a:srgbClr val="96969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270000" y="1628640"/>
            <a:ext cx="874872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男性，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患者于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12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天前开始发热达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38℃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感全身不适、乏力、食欲减退、恶心、右上腹部不适，偶尔呕吐，曾按上感和胃病治疗无好转。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周前皮肤出现黄染，尿色较黄，无皮肤搔痒，排便正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既往体健。</a:t>
            </a:r>
            <a:br>
              <a:rPr sz="2400"/>
            </a:br>
            <a:r>
              <a:rPr b="0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1116000" y="260280"/>
            <a:ext cx="7056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隶书"/>
              </a:rPr>
              <a:t>病例：</a:t>
            </a:r>
            <a:endParaRPr b="1" lang="en-US" sz="32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539280" y="2033280"/>
            <a:ext cx="8209080" cy="37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查体：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T 37.5℃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P 80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分，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R 20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分，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BP 120/75mmHg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皮肤略黄，巩膜黄染，心肺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(-)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腹平软，肝肋下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2cm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质软，轻压痛和叩击痛，脾侧位刚及，腹水征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(-)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下肢不肿。　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化验：血常规正常；尿常规：尿胆红素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(+)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 尿胆原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(+)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；粪便常规：颜色加深， 隐血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(-).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分析：该病考虑哪一型黄疸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Verdana"/>
              </a:rPr>
              <a:t>答：肝细胞性黄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一、概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8000" y="1628640"/>
            <a:ext cx="9036000" cy="484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黄疸是由于</a:t>
            </a:r>
            <a:r>
              <a:rPr b="0" i="1" lang="zh-CN" sz="2400" spc="-1" strike="noStrike" u="sng">
                <a:solidFill>
                  <a:srgbClr val="ddb523"/>
                </a:solidFill>
                <a:uFillTx/>
                <a:latin typeface="宋体"/>
              </a:rPr>
              <a:t>血清中</a:t>
            </a:r>
            <a:r>
              <a:rPr b="0" i="1" lang="zh-CN" sz="2400" spc="-1" strike="noStrike">
                <a:solidFill>
                  <a:srgbClr val="ddb523"/>
                </a:solidFill>
                <a:latin typeface="宋体"/>
              </a:rPr>
              <a:t>胆红素升高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致使</a:t>
            </a:r>
            <a:r>
              <a:rPr b="0" i="1" lang="zh-CN" sz="2400" spc="-1" strike="noStrike">
                <a:solidFill>
                  <a:srgbClr val="cc00cc"/>
                </a:solidFill>
                <a:latin typeface="宋体"/>
              </a:rPr>
              <a:t>皮肤、黏膜和巩膜发黄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的症状和体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血清总胆红素（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TB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   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=20%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结合胆红素（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CB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）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+80%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非结合胆红素（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UCB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CB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UCB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的特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22" name="Group 30"/>
          <p:cNvGrpSpPr/>
          <p:nvPr/>
        </p:nvGrpSpPr>
        <p:grpSpPr>
          <a:xfrm>
            <a:off x="-541440" y="4292640"/>
            <a:ext cx="10188720" cy="2443680"/>
            <a:chOff x="-541440" y="4292640"/>
            <a:chExt cx="10188720" cy="2443680"/>
          </a:xfrm>
        </p:grpSpPr>
        <p:grpSp>
          <p:nvGrpSpPr>
            <p:cNvPr id="123" name="Group 7"/>
            <p:cNvGrpSpPr/>
            <p:nvPr/>
          </p:nvGrpSpPr>
          <p:grpSpPr>
            <a:xfrm>
              <a:off x="-541440" y="4446360"/>
              <a:ext cx="9072360" cy="2289960"/>
              <a:chOff x="-541440" y="4446360"/>
              <a:chExt cx="9072360" cy="2289960"/>
            </a:xfrm>
          </p:grpSpPr>
          <p:grpSp>
            <p:nvGrpSpPr>
              <p:cNvPr id="124" name="Group 8"/>
              <p:cNvGrpSpPr/>
              <p:nvPr/>
            </p:nvGrpSpPr>
            <p:grpSpPr>
              <a:xfrm>
                <a:off x="6248880" y="5433480"/>
                <a:ext cx="1312920" cy="842400"/>
                <a:chOff x="6248880" y="5433480"/>
                <a:chExt cx="1312920" cy="842400"/>
              </a:xfrm>
            </p:grpSpPr>
            <p:sp>
              <p:nvSpPr>
                <p:cNvPr id="125" name="Rectangle 9"/>
                <p:cNvSpPr/>
                <p:nvPr/>
              </p:nvSpPr>
              <p:spPr>
                <a:xfrm>
                  <a:off x="6248880" y="5755320"/>
                  <a:ext cx="1312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cc3300"/>
                      </a:solidFill>
                      <a:latin typeface="Times New Roman"/>
                      <a:ea typeface="黑体"/>
                    </a:rPr>
                    <a:t>黄疸</a:t>
                  </a:r>
                  <a:endParaRPr b="1" lang="en-US" sz="2800" spc="-1" strike="noStrike">
                    <a:solidFill>
                      <a:srgbClr val="046ca6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10"/>
                <p:cNvSpPr/>
                <p:nvPr/>
              </p:nvSpPr>
              <p:spPr>
                <a:xfrm>
                  <a:off x="6937920" y="5433480"/>
                  <a:ext cx="0" cy="401760"/>
                </a:xfrm>
                <a:prstGeom prst="line">
                  <a:avLst/>
                </a:prstGeom>
                <a:ln w="3492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046ca6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" name="Group 11"/>
              <p:cNvGrpSpPr/>
              <p:nvPr/>
            </p:nvGrpSpPr>
            <p:grpSpPr>
              <a:xfrm>
                <a:off x="-541440" y="4446360"/>
                <a:ext cx="9072360" cy="2289960"/>
                <a:chOff x="-541440" y="4446360"/>
                <a:chExt cx="9072360" cy="2289960"/>
              </a:xfrm>
            </p:grpSpPr>
            <p:grpSp>
              <p:nvGrpSpPr>
                <p:cNvPr id="128" name="Group 12"/>
                <p:cNvGrpSpPr/>
                <p:nvPr/>
              </p:nvGrpSpPr>
              <p:grpSpPr>
                <a:xfrm>
                  <a:off x="577440" y="5473440"/>
                  <a:ext cx="1839960" cy="1262880"/>
                  <a:chOff x="577440" y="5473440"/>
                  <a:chExt cx="1839960" cy="1262880"/>
                </a:xfrm>
              </p:grpSpPr>
              <p:sp>
                <p:nvSpPr>
                  <p:cNvPr id="129" name="Rectangle 13"/>
                  <p:cNvSpPr/>
                  <p:nvPr/>
                </p:nvSpPr>
                <p:spPr>
                  <a:xfrm>
                    <a:off x="577440" y="5789160"/>
                    <a:ext cx="1839960" cy="94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600" spc="-1" strike="noStrike">
                        <a:solidFill>
                          <a:srgbClr val="046ca6"/>
                        </a:solidFill>
                        <a:latin typeface="黑体"/>
                        <a:ea typeface="黑体"/>
                      </a:rPr>
                      <a:t>   </a:t>
                    </a:r>
                    <a:r>
                      <a:rPr b="1" lang="zh-CN" sz="2600" spc="-1" strike="noStrike">
                        <a:solidFill>
                          <a:srgbClr val="cc3300"/>
                        </a:solidFill>
                        <a:latin typeface="黑体"/>
                        <a:ea typeface="黑体"/>
                      </a:rPr>
                      <a:t>  </a:t>
                    </a:r>
                    <a:r>
                      <a:rPr b="1" lang="zh-CN" sz="2800" spc="-1" strike="noStrike">
                        <a:solidFill>
                          <a:srgbClr val="cc3300"/>
                        </a:solidFill>
                        <a:latin typeface="黑体"/>
                        <a:ea typeface="黑体"/>
                      </a:rPr>
                      <a:t>正常</a:t>
                    </a:r>
                    <a:endParaRPr b="1" lang="en-US" sz="2800" spc="-1" strike="noStrike">
                      <a:solidFill>
                        <a:srgbClr val="046ca6"/>
                      </a:solidFill>
                      <a:latin typeface="Tahoma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46ca6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0" name="Line 14"/>
                  <p:cNvSpPr/>
                  <p:nvPr/>
                </p:nvSpPr>
                <p:spPr>
                  <a:xfrm flipH="1">
                    <a:off x="1929960" y="5473440"/>
                    <a:ext cx="21600" cy="402840"/>
                  </a:xfrm>
                  <a:prstGeom prst="line">
                    <a:avLst/>
                  </a:prstGeom>
                  <a:ln w="3492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46ca6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31" name="Group 15"/>
                <p:cNvGrpSpPr/>
                <p:nvPr/>
              </p:nvGrpSpPr>
              <p:grpSpPr>
                <a:xfrm>
                  <a:off x="3307680" y="5473440"/>
                  <a:ext cx="1951560" cy="817200"/>
                  <a:chOff x="3307680" y="5473440"/>
                  <a:chExt cx="1951560" cy="817200"/>
                </a:xfrm>
              </p:grpSpPr>
              <p:sp>
                <p:nvSpPr>
                  <p:cNvPr id="132" name="Rectangle 16"/>
                  <p:cNvSpPr/>
                  <p:nvPr/>
                </p:nvSpPr>
                <p:spPr>
                  <a:xfrm>
                    <a:off x="3307680" y="5770080"/>
                    <a:ext cx="19515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800" spc="-1" strike="noStrike">
                        <a:solidFill>
                          <a:srgbClr val="cc3300"/>
                        </a:solidFill>
                        <a:latin typeface="Times New Roman"/>
                        <a:ea typeface="黑体"/>
                      </a:rPr>
                      <a:t>隐性黄疸</a:t>
                    </a:r>
                    <a:endParaRPr b="1" lang="en-US" sz="2800" spc="-1" strike="noStrike">
                      <a:solidFill>
                        <a:srgbClr val="046ca6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3" name="Line 17"/>
                  <p:cNvSpPr/>
                  <p:nvPr/>
                </p:nvSpPr>
                <p:spPr>
                  <a:xfrm>
                    <a:off x="4190400" y="5473440"/>
                    <a:ext cx="0" cy="401760"/>
                  </a:xfrm>
                  <a:prstGeom prst="line">
                    <a:avLst/>
                  </a:prstGeom>
                  <a:ln w="3492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46ca6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34" name="Group 18"/>
                <p:cNvGrpSpPr/>
                <p:nvPr/>
              </p:nvGrpSpPr>
              <p:grpSpPr>
                <a:xfrm>
                  <a:off x="-541440" y="4446360"/>
                  <a:ext cx="9072360" cy="1158480"/>
                  <a:chOff x="-541440" y="4446360"/>
                  <a:chExt cx="9072360" cy="1158480"/>
                </a:xfrm>
              </p:grpSpPr>
              <p:grpSp>
                <p:nvGrpSpPr>
                  <p:cNvPr id="135" name="Group 19"/>
                  <p:cNvGrpSpPr/>
                  <p:nvPr/>
                </p:nvGrpSpPr>
                <p:grpSpPr>
                  <a:xfrm>
                    <a:off x="965520" y="4446360"/>
                    <a:ext cx="7565400" cy="1158480"/>
                    <a:chOff x="965520" y="4446360"/>
                    <a:chExt cx="7565400" cy="1158480"/>
                  </a:xfrm>
                </p:grpSpPr>
                <p:grpSp>
                  <p:nvGrpSpPr>
                    <p:cNvPr id="136" name="Group 20"/>
                    <p:cNvGrpSpPr/>
                    <p:nvPr/>
                  </p:nvGrpSpPr>
                  <p:grpSpPr>
                    <a:xfrm>
                      <a:off x="1064520" y="4961880"/>
                      <a:ext cx="7466400" cy="642960"/>
                      <a:chOff x="1064520" y="4961880"/>
                      <a:chExt cx="7466400" cy="642960"/>
                    </a:xfrm>
                  </p:grpSpPr>
                  <p:sp>
                    <p:nvSpPr>
                      <p:cNvPr id="137" name="AutoShape 21"/>
                      <p:cNvSpPr/>
                      <p:nvPr/>
                    </p:nvSpPr>
                    <p:spPr>
                      <a:xfrm>
                        <a:off x="1064520" y="4961880"/>
                        <a:ext cx="7466400" cy="642960"/>
                      </a:xfrm>
                      <a:custGeom>
                        <a:avLst/>
                        <a:gdLst>
                          <a:gd name="textAreaLeft" fmla="*/ 0 w 7466400"/>
                          <a:gd name="textAreaRight" fmla="*/ 7466760 w 7466400"/>
                          <a:gd name="textAreaTop" fmla="*/ 0 h 642960"/>
                          <a:gd name="textAreaBottom" fmla="*/ 642960 h 64296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20144" y="0"/>
                            </a:lnTo>
                            <a:lnTo>
                              <a:pt x="21600" y="10800"/>
                            </a:lnTo>
                            <a:lnTo>
                              <a:pt x="20144" y="21600"/>
                            </a:lnTo>
                            <a:lnTo>
                              <a:pt x="0" y="21600"/>
                            </a:lnTo>
                            <a:close/>
                          </a:path>
                        </a:pathLst>
                      </a:custGeom>
                      <a:blipFill rotWithShape="0">
                        <a:blip r:embed="rId1"/>
                        <a:srcRect/>
                        <a:tile tx="0" ty="0" sx="100000" sy="100000" algn="ctr"/>
                      </a:blipFill>
                      <a:ln w="9360">
                        <a:solidFill>
                          <a:srgbClr val="046ca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8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400" spc="-1" strike="noStrike">
                            <a:solidFill>
                              <a:srgbClr val="000099"/>
                            </a:solidFill>
                            <a:latin typeface="黑体"/>
                            <a:ea typeface="黑体"/>
                          </a:rPr>
                          <a:t>血    清   胆    红    素    浓    度</a:t>
                        </a:r>
                        <a:endParaRPr b="1" lang="en-US" sz="24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4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138" name="Line 22"/>
                      <p:cNvSpPr/>
                      <p:nvPr/>
                    </p:nvSpPr>
                    <p:spPr>
                      <a:xfrm>
                        <a:off x="3211920" y="4963320"/>
                        <a:ext cx="0" cy="641520"/>
                      </a:xfrm>
                      <a:prstGeom prst="line">
                        <a:avLst/>
                      </a:prstGeom>
                      <a:ln w="572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1" lang="en-US" sz="18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139" name="Line 23"/>
                      <p:cNvSpPr/>
                      <p:nvPr/>
                    </p:nvSpPr>
                    <p:spPr>
                      <a:xfrm>
                        <a:off x="6062040" y="4961880"/>
                        <a:ext cx="0" cy="641520"/>
                      </a:xfrm>
                      <a:prstGeom prst="line">
                        <a:avLst/>
                      </a:prstGeom>
                      <a:ln w="8892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1" lang="en-US" sz="18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</p:txBody>
                  </p:sp>
                </p:grpSp>
                <p:sp>
                  <p:nvSpPr>
                    <p:cNvPr id="140" name="Rectangle 24"/>
                    <p:cNvSpPr/>
                    <p:nvPr/>
                  </p:nvSpPr>
                  <p:spPr>
                    <a:xfrm>
                      <a:off x="5731920" y="4446360"/>
                      <a:ext cx="1041840" cy="550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34. 2</a:t>
                      </a:r>
                      <a:endParaRPr b="1" lang="en-US" sz="3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p:txBody>
                </p:sp>
                <p:grpSp>
                  <p:nvGrpSpPr>
                    <p:cNvPr id="141" name="Group 25"/>
                    <p:cNvGrpSpPr/>
                    <p:nvPr/>
                  </p:nvGrpSpPr>
                  <p:grpSpPr>
                    <a:xfrm>
                      <a:off x="965520" y="4446360"/>
                      <a:ext cx="2857320" cy="971280"/>
                      <a:chOff x="965520" y="4446360"/>
                      <a:chExt cx="2857320" cy="971280"/>
                    </a:xfrm>
                  </p:grpSpPr>
                  <p:sp>
                    <p:nvSpPr>
                      <p:cNvPr id="142" name="Rectangle 26"/>
                      <p:cNvSpPr/>
                      <p:nvPr/>
                    </p:nvSpPr>
                    <p:spPr>
                      <a:xfrm>
                        <a:off x="2781000" y="4446360"/>
                        <a:ext cx="1041840" cy="5508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3000" spc="-1" strike="noStrike">
                            <a:solidFill>
                              <a:srgbClr val="ff0000"/>
                            </a:solidFill>
                            <a:latin typeface="黑体"/>
                            <a:ea typeface="黑体"/>
                          </a:rPr>
                          <a:t>17. 1</a:t>
                        </a:r>
                        <a:endParaRPr b="1" lang="en-US" sz="30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143" name="Text Box 27"/>
                      <p:cNvSpPr/>
                      <p:nvPr/>
                    </p:nvSpPr>
                    <p:spPr>
                      <a:xfrm flipH="1">
                        <a:off x="965520" y="4531680"/>
                        <a:ext cx="1946880" cy="8859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600" spc="-1" strike="noStrike">
                            <a:solidFill>
                              <a:srgbClr val="ffcc00"/>
                            </a:solidFill>
                            <a:latin typeface="黑体"/>
                            <a:ea typeface="黑体"/>
                          </a:rPr>
                          <a:t>1.7</a:t>
                        </a:r>
                        <a:endParaRPr b="1" lang="en-US" sz="26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6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</p:txBody>
                  </p:sp>
                </p:grpSp>
              </p:grpSp>
              <p:sp>
                <p:nvSpPr>
                  <p:cNvPr id="144" name="Rectangle 28"/>
                  <p:cNvSpPr/>
                  <p:nvPr/>
                </p:nvSpPr>
                <p:spPr>
                  <a:xfrm>
                    <a:off x="-541440" y="4975560"/>
                    <a:ext cx="1662480" cy="48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46ca6"/>
                      </a:solidFill>
                      <a:latin typeface="Tahoma"/>
                    </a:endParaRPr>
                  </a:p>
                </p:txBody>
              </p:sp>
            </p:grpSp>
          </p:grpSp>
        </p:grpSp>
        <p:sp>
          <p:nvSpPr>
            <p:cNvPr id="145" name="Text Box 29"/>
            <p:cNvSpPr/>
            <p:nvPr/>
          </p:nvSpPr>
          <p:spPr>
            <a:xfrm>
              <a:off x="6659640" y="4292640"/>
              <a:ext cx="2987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 </a:t>
              </a:r>
              <a:r>
                <a:rPr b="1" lang="en-US" sz="3200" spc="-1" strike="noStrike">
                  <a:solidFill>
                    <a:srgbClr val="ddb523"/>
                  </a:solidFill>
                  <a:latin typeface="黑体"/>
                  <a:ea typeface="黑体"/>
                </a:rPr>
                <a:t>(μmol/L)</a:t>
              </a:r>
              <a:endParaRPr b="1" lang="en-US" sz="3200" spc="-1" strike="noStrike">
                <a:solidFill>
                  <a:srgbClr val="046ca6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68000" y="198900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黄疸分生理性和病理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b523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</a:rPr>
              <a:t>假性黄疸</a:t>
            </a:r>
            <a:r>
              <a:rPr b="1" lang="zh-CN" sz="2800" spc="-1" strike="noStrike">
                <a:solidFill>
                  <a:srgbClr val="ddb523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</a:rPr>
              <a:t>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食用胡萝卜、南瓜、橘子等过多，出现胡萝卜素血症，皮肤黄染，但巩膜不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8" name="Picture 3" descr="ANd9GcQL2J1pbl6aph5rXC7ZiDAXaCNqIyO8EuoELojpmqcObVk4uqYtIg"/>
          <p:cNvPicPr/>
          <p:nvPr/>
        </p:nvPicPr>
        <p:blipFill>
          <a:blip r:embed="rId1"/>
          <a:stretch/>
        </p:blipFill>
        <p:spPr>
          <a:xfrm>
            <a:off x="5219640" y="476280"/>
            <a:ext cx="35816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150" name="Picture 2" descr="胆红素正常代谢示意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1372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3"/>
          <p:cNvSpPr/>
          <p:nvPr/>
        </p:nvSpPr>
        <p:spPr>
          <a:xfrm>
            <a:off x="2700360" y="6237360"/>
            <a:ext cx="446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胆红素正常代谢示意图</a:t>
            </a:r>
            <a:br>
              <a:rPr sz="2400"/>
            </a:b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3419640" y="242100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Arial"/>
              </a:rPr>
              <a:t>由血清蛋白转运</a:t>
            </a:r>
            <a:endParaRPr b="1" lang="en-US" sz="1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250920" y="4221000"/>
            <a:ext cx="2665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、胆红素的生成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、胆红素的运输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、胆红素的代谢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18920" y="765000"/>
            <a:ext cx="638964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黑体"/>
              </a:rPr>
              <a:t>黄疸的分类及机制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AutoShape 3"/>
          <p:cNvSpPr/>
          <p:nvPr/>
        </p:nvSpPr>
        <p:spPr>
          <a:xfrm>
            <a:off x="2916360" y="1989000"/>
            <a:ext cx="5688000" cy="244980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溶血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细胞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胆汁淤积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梗阻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57" name="AutoShape 4"/>
          <p:cNvSpPr/>
          <p:nvPr/>
        </p:nvSpPr>
        <p:spPr>
          <a:xfrm>
            <a:off x="3059280" y="4869000"/>
            <a:ext cx="5545080" cy="141912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UC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增高为主的黄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增高为主的黄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1257480" y="2708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</a:rPr>
              <a:t>按病因学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665280" y="5229360"/>
            <a:ext cx="15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按胆红素性质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溶血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日期占位符 6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01600" y="1699920"/>
            <a:ext cx="8569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溶血性黄疸：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由于红细胞破坏过多，形成大量的非结合胆红素超过肝的处理能力，导致血中</a:t>
            </a:r>
            <a:r>
              <a:rPr b="0" lang="zh-CN" sz="2800" spc="-1" strike="noStrike" u="sng">
                <a:solidFill>
                  <a:srgbClr val="cc00cc"/>
                </a:solidFill>
                <a:uFillTx/>
                <a:latin typeface="楷体_GB2312"/>
                <a:ea typeface="楷体_GB2312"/>
              </a:rPr>
              <a:t>非结合胆红素增高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而引起的黄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5" name="Picture 3" descr="cells"/>
          <p:cNvPicPr/>
          <p:nvPr/>
        </p:nvPicPr>
        <p:blipFill>
          <a:blip r:embed="rId1"/>
          <a:stretch/>
        </p:blipFill>
        <p:spPr>
          <a:xfrm>
            <a:off x="5867280" y="4149720"/>
            <a:ext cx="2987640" cy="213372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4486320" y="1092240"/>
            <a:ext cx="1454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02:12:24Z</dcterms:created>
  <dc:creator>微软用户</dc:creator>
  <dc:description/>
  <cp:keywords/>
  <dc:language>en-US</dc:language>
  <cp:lastModifiedBy>赵欣</cp:lastModifiedBy>
  <cp:lastPrinted>1899-12-30T00:00:00Z</cp:lastPrinted>
  <dcterms:modified xsi:type="dcterms:W3CDTF">2015-12-16T08:10:49Z</dcterms:modified>
  <cp:revision>38</cp:revision>
  <dc:subject/>
  <dc:title>第十一节黄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699</vt:lpwstr>
  </property>
</Properties>
</file>